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8.wmf" ContentType="image/x-wmf"/>
  <Override PartName="/ppt/media/image10.jpeg" ContentType="image/jpeg"/>
  <Override PartName="/ppt/media/image9.wmf" ContentType="image/x-wmf"/>
  <Override PartName="/ppt/media/image6.gif" ContentType="image/gif"/>
  <Override PartName="/ppt/media/image20.gif" ContentType="image/gif"/>
  <Override PartName="/ppt/media/image19.png" ContentType="image/png"/>
  <Override PartName="/ppt/media/image17.gif" ContentType="image/gif"/>
  <Override PartName="/ppt/media/image2.jpeg" ContentType="image/jpeg"/>
  <Override PartName="/ppt/media/image14.jpeg" ContentType="image/jpeg"/>
  <Override PartName="/ppt/media/image1.gif" ContentType="image/gif"/>
  <Override PartName="/ppt/media/image3.jpeg" ContentType="image/jpeg"/>
  <Override PartName="/ppt/media/image15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5.wmf" ContentType="image/x-wmf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DB5-53E7-48BA-BD80-0D287105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4E1-FDBE-4C4B-AFA4-754290BA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8EF-92B9-44C2-A2E1-8E5B43A0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39F-5240-413F-9181-3123A748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823F1-22C6-4CF6-A96C-3C406312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0AEA7-79FD-4318-9C1B-62D5E7CC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79DA6-142C-4BC8-BB5B-8B547444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2FCAC-BF44-4068-919A-3CB64D62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7E1E5-4855-4901-B40F-8C51B9B5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C5F0C-A50B-4A71-B79F-728D4493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39AA1-D130-47D4-BC96-6A25C189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7CF-8E07-4191-BF77-13FAD740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A823F-A7DF-4FF1-8530-F3D8EDAD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D3F92-EA42-4FE7-8351-CCF84D68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447FD-AE4D-4B4F-BF0F-ED2885BA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61640-A381-448E-BD04-CF5D714A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9830A-9A48-4A5D-A742-9804F9C1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4A8B-24FC-474D-AACD-0D2A1167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607-0C90-47EA-9184-3F566B3A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AED-E8AF-4088-86A2-BCB08B4A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824D-A972-4649-938E-849F41C0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3B7-F91B-4D31-811C-E9291A0F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3759-1D05-4E6A-8D7C-EB7E02FA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E47-9062-421E-83BB-8823C9F8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8D58-BACE-4B4C-87D4-D00F98BC68B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4ED5-5195-4598-91EB-542EC9DC64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j0309709"/>
          <p:cNvPicPr/>
          <p:nvPr/>
        </p:nvPicPr>
        <p:blipFill>
          <a:blip r:embed="rId1"/>
          <a:stretch/>
        </p:blipFill>
        <p:spPr>
          <a:xfrm>
            <a:off x="0" y="7920"/>
            <a:ext cx="9325080" cy="6850080"/>
          </a:xfrm>
          <a:prstGeom prst="rect">
            <a:avLst/>
          </a:prstGeom>
          <a:ln w="0">
            <a:noFill/>
          </a:ln>
        </p:spPr>
      </p:pic>
      <p:sp>
        <p:nvSpPr>
          <p:cNvPr id="123" name="WordArt 6"/>
          <p:cNvSpPr txBox="1"/>
          <p:nvPr/>
        </p:nvSpPr>
        <p:spPr>
          <a:xfrm>
            <a:off x="1116000" y="1989000"/>
            <a:ext cx="7345440" cy="22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н был первым…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1928880" y="3929040"/>
            <a:ext cx="6904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лассный час, посвященный Дню космонавти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Автор: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рущенко О.В., МОУ СОШ №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. Миллерово, Ростов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76" descr="DEN1"/>
          <p:cNvPicPr/>
          <p:nvPr/>
        </p:nvPicPr>
        <p:blipFill>
          <a:blip r:embed="rId1"/>
          <a:stretch/>
        </p:blipFill>
        <p:spPr>
          <a:xfrm>
            <a:off x="6877080" y="260280"/>
            <a:ext cx="2060640" cy="21337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74898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омните, друзья: путь в космос для каждого из нас начинается здесь, на Земле. Он пролегает через хорошее сочинение по литературе, через отличную контрольную работу по математике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ая большая победа придет только к тому, кто умеет одерживать над собой самые маленькие, незаметные для других победы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WordArt 11"/>
          <p:cNvSpPr txBox="1"/>
          <p:nvPr/>
        </p:nvSpPr>
        <p:spPr>
          <a:xfrm>
            <a:off x="1619280" y="333360"/>
            <a:ext cx="4681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агарин - детям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Text Box 55"/>
          <p:cNvSpPr/>
          <p:nvPr/>
        </p:nvSpPr>
        <p:spPr>
          <a:xfrm>
            <a:off x="2700360" y="5229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письма Ю.Гагарина 26 апреля 1961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58"/>
          <p:cNvSpPr/>
          <p:nvPr/>
        </p:nvSpPr>
        <p:spPr>
          <a:xfrm>
            <a:off x="-633240" y="4336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4"/>
          <p:cNvSpPr/>
          <p:nvPr/>
        </p:nvSpPr>
        <p:spPr>
          <a:xfrm>
            <a:off x="9375840" y="4336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4" descr="j02190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Когда состоялся первый полет человека в космос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Когда родился Ю.А.Гагарин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Где он родилс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Какие учебные заведения окончил Ю.А.Гагарин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Как назывался космический корабль с человеком на борту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Назовите имя конструктора космического корабля «Восток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каком году Гагарин побывал на Донской земл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2214720" y="404640"/>
            <a:ext cx="4373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кторина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 вертикал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Областной центр- родина Гагари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Река в Ростовской области, где отдыхал Гагарин в июне 1967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Периоды обращения Земли вокруг Солн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.Форма планеты, наблюдаемой в телескоп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 горизонтали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Автоматические самоходные аппараты для исследования поверхности Лу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Первый советский космический корабль.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4" descr="NEBO5"/>
          <p:cNvPicPr/>
          <p:nvPr/>
        </p:nvPicPr>
        <p:blipFill>
          <a:blip r:embed="rId1"/>
          <a:stretch/>
        </p:blipFill>
        <p:spPr>
          <a:xfrm>
            <a:off x="4643280" y="1197000"/>
            <a:ext cx="4248360" cy="45054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6713280" y="2419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042920" y="47628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Arial"/>
              </a:rPr>
              <a:t>КРОССВОРД «КОСМОС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7596360" y="27082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8291160" y="2104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5627520" y="404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5651640" y="3112920"/>
            <a:ext cx="215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5636160" y="3112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5380200" y="22669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4"/>
          <p:cNvSpPr/>
          <p:nvPr/>
        </p:nvSpPr>
        <p:spPr>
          <a:xfrm>
            <a:off x="4762080" y="469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Отгадай кроссворд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1" name="Picture 4" descr="NEBO"/>
          <p:cNvPicPr/>
          <p:nvPr/>
        </p:nvPicPr>
        <p:blipFill>
          <a:blip r:embed="rId1"/>
          <a:stretch/>
        </p:blipFill>
        <p:spPr>
          <a:xfrm>
            <a:off x="1042920" y="1413000"/>
            <a:ext cx="3583080" cy="47512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6856560" y="1719360"/>
            <a:ext cx="81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788000" y="1700280"/>
            <a:ext cx="403200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 горизонтали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остюм космонав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Имя одной из доче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.А.Гагари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 вертикал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Гигантская звезд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а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Мифический юнош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нявшийся в небо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ыль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Кличка собаки, впер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етевшей в космо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1457280" y="2995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2843280" y="2060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833640" y="2058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178000" y="3716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1835280" y="4076640"/>
            <a:ext cx="2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арущенко О.В.,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учитель истории МОУ СОШ №2, педагог дополнительного образ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г. Миллеро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остовская об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4" descr="j0254487"/>
          <p:cNvPicPr/>
          <p:nvPr/>
        </p:nvPicPr>
        <p:blipFill>
          <a:blip r:embed="rId1"/>
          <a:stretch/>
        </p:blipFill>
        <p:spPr>
          <a:xfrm>
            <a:off x="3635280" y="4365720"/>
            <a:ext cx="1844640" cy="2016000"/>
          </a:xfrm>
          <a:prstGeom prst="rect">
            <a:avLst/>
          </a:prstGeom>
          <a:ln w="0">
            <a:noFill/>
          </a:ln>
        </p:spPr>
      </p:pic>
      <p:sp>
        <p:nvSpPr>
          <p:cNvPr id="231" name="WordArt 5"/>
          <p:cNvSpPr txBox="1"/>
          <p:nvPr/>
        </p:nvSpPr>
        <p:spPr>
          <a:xfrm>
            <a:off x="2484360" y="476280"/>
            <a:ext cx="410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втор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оект предназначен для использования во внеурочной работе с учащимися основной шко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атериалы проекта могут использоваться при проведении мероприятий познавательной и патриотической направленности (классные часы, устные журналы и д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1835280" y="333360"/>
            <a:ext cx="5138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аткая аннотац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700360" y="476280"/>
            <a:ext cx="5997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апреля 1961 года весь мир облетела ошеломляющая новость: «Человек в космосе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Гагарин3"/>
          <p:cNvPicPr/>
          <p:nvPr/>
        </p:nvPicPr>
        <p:blipFill>
          <a:blip r:embed="rId1"/>
          <a:stretch/>
        </p:blipFill>
        <p:spPr>
          <a:xfrm>
            <a:off x="324000" y="404640"/>
            <a:ext cx="2327040" cy="26672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971640" y="3716280"/>
            <a:ext cx="72738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7 часов 30 минут стартовал первый в мире космический корабль «Восток» с человеком на бор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357440" y="1857240"/>
            <a:ext cx="40719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я моя жизнь кажется мне одним прекрасным мгновением»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Ю.А Гага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9" descr="Гагарин5"/>
          <p:cNvPicPr/>
          <p:nvPr/>
        </p:nvPicPr>
        <p:blipFill>
          <a:blip r:embed="rId1"/>
          <a:stretch/>
        </p:blipFill>
        <p:spPr>
          <a:xfrm>
            <a:off x="1428840" y="500040"/>
            <a:ext cx="250020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то  он, Гагарин, прославивший век?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то он? Советский простой человек!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28680" y="1988640"/>
            <a:ext cx="4530600" cy="35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рий Алексеевич Гага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лся 9 марта 1934 года в Гжатском  районе Смоленской области. С детства увлекался самолетами, мечтал стать летчиком. Увлекался спортом, читал книги по воздухоплава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Гагарин1"/>
          <p:cNvPicPr/>
          <p:nvPr/>
        </p:nvPicPr>
        <p:blipFill>
          <a:blip r:embed="rId1"/>
          <a:stretch/>
        </p:blipFill>
        <p:spPr>
          <a:xfrm>
            <a:off x="1428840" y="1571760"/>
            <a:ext cx="26082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4"/>
          <p:cNvSpPr/>
          <p:nvPr/>
        </p:nvSpPr>
        <p:spPr>
          <a:xfrm flipV="1">
            <a:off x="2556000" y="494136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2556000" y="494172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 flipV="1">
            <a:off x="3635280" y="400500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3635280" y="4005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 flipV="1">
            <a:off x="4643280" y="306864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5651640" y="213336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4643280" y="306864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5651640" y="213372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776320" y="5229360"/>
            <a:ext cx="2539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аратовский аэроклуб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786840" y="4221000"/>
            <a:ext cx="4595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каловское военное авиационное училищ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4867560" y="3284640"/>
            <a:ext cx="40136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верный флот, летчик-истребител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5802120" y="2349360"/>
            <a:ext cx="218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ряд космонав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6" descr="j0215086"/>
          <p:cNvPicPr/>
          <p:nvPr/>
        </p:nvPicPr>
        <p:blipFill>
          <a:blip r:embed="rId1"/>
          <a:stretch/>
        </p:blipFill>
        <p:spPr>
          <a:xfrm>
            <a:off x="324000" y="333360"/>
            <a:ext cx="1660320" cy="2600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j0303421"/>
          <p:cNvPicPr/>
          <p:nvPr/>
        </p:nvPicPr>
        <p:blipFill>
          <a:blip r:embed="rId2"/>
          <a:stretch/>
        </p:blipFill>
        <p:spPr>
          <a:xfrm>
            <a:off x="2771640" y="4076640"/>
            <a:ext cx="476280" cy="6192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21"/>
          <p:cNvSpPr txBox="1"/>
          <p:nvPr/>
        </p:nvSpPr>
        <p:spPr>
          <a:xfrm>
            <a:off x="2700360" y="404640"/>
            <a:ext cx="56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ь в космонавтику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C 0.01007 -0.0375 0.02014 -0.07476 0.04166 -0.09259 C 0.06319 -0.11041 0.1151 -0.10462 0.12916 -0.1074 E">
                                      <p:cBhvr>
                                        <p:cTn id="19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16 -0.1074 C 0.12916 -0.16296 0.12916 -0.21852 0.1486 -0.24629 C 0.16805 -0.27407 0.22916 -0.26944 0.24583 -0.27407 E">
                                      <p:cBhvr>
                                        <p:cTn id="2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583 -0.27407 C 0.24618 -0.31829 0.2467 -0.36227 0.26389 -0.38333 C 0.28108 -0.4044 0.33264 -0.39815 0.34861 -0.4 C 0.36458 -0.40185 0.36215 -0.39815 0.35972 -0.39444 E">
                                      <p:cBhvr>
                                        <p:cTn id="27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57200" y="333360"/>
            <a:ext cx="678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 Black"/>
              </a:rPr>
              <a:t>«Он сказал: «Поехали!» </a:t>
            </a:r>
            <a:br>
              <a:rPr sz="2400"/>
            </a:br>
            <a:r>
              <a:rPr b="0" lang="ru-RU" sz="2400" spc="-1" strike="noStrike">
                <a:solidFill>
                  <a:srgbClr val="e3e3ff"/>
                </a:solidFill>
                <a:latin typeface="Arial Black"/>
              </a:rPr>
              <a:t>И взмахнул рукой»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6" descr="Гагарин и Королев"/>
          <p:cNvPicPr/>
          <p:nvPr/>
        </p:nvPicPr>
        <p:blipFill>
          <a:blip r:embed="rId1"/>
          <a:stretch/>
        </p:blipFill>
        <p:spPr>
          <a:xfrm>
            <a:off x="571680" y="1785960"/>
            <a:ext cx="3371760" cy="23572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1"/>
          <p:cNvSpPr/>
          <p:nvPr/>
        </p:nvSpPr>
        <p:spPr>
          <a:xfrm>
            <a:off x="1116000" y="537372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Ю.А.Гагарин и С.П.Королё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1706400" y="5578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0"/>
          <p:cNvSpPr/>
          <p:nvPr/>
        </p:nvSpPr>
        <p:spPr>
          <a:xfrm>
            <a:off x="1979640" y="5300640"/>
            <a:ext cx="48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4" descr="j0188687"/>
          <p:cNvPicPr/>
          <p:nvPr/>
        </p:nvPicPr>
        <p:blipFill>
          <a:blip r:embed="rId2"/>
          <a:stretch/>
        </p:blipFill>
        <p:spPr>
          <a:xfrm rot="21250200">
            <a:off x="5059440" y="1327320"/>
            <a:ext cx="24462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5" descr="j0309932"/>
          <p:cNvPicPr/>
          <p:nvPr/>
        </p:nvPicPr>
        <p:blipFill>
          <a:blip r:embed="rId1"/>
          <a:stretch/>
        </p:blipFill>
        <p:spPr>
          <a:xfrm>
            <a:off x="3132000" y="2205000"/>
            <a:ext cx="295272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3"/>
          <p:cNvSpPr/>
          <p:nvPr/>
        </p:nvSpPr>
        <p:spPr>
          <a:xfrm>
            <a:off x="6516720" y="2349360"/>
            <a:ext cx="1728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РЕ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6588000" y="278136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НГОЛ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30"/>
          <p:cNvSpPr/>
          <p:nvPr/>
        </p:nvSpPr>
        <p:spPr>
          <a:xfrm>
            <a:off x="6659640" y="37069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ЬЕТНА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7"/>
          <p:cNvSpPr/>
          <p:nvPr/>
        </p:nvSpPr>
        <p:spPr>
          <a:xfrm>
            <a:off x="6640560" y="3760920"/>
            <a:ext cx="1460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8"/>
          <p:cNvSpPr/>
          <p:nvPr/>
        </p:nvSpPr>
        <p:spPr>
          <a:xfrm>
            <a:off x="6315120" y="521820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9"/>
          <p:cNvSpPr/>
          <p:nvPr/>
        </p:nvSpPr>
        <p:spPr>
          <a:xfrm>
            <a:off x="1403280" y="34290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Б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50"/>
          <p:cNvSpPr/>
          <p:nvPr/>
        </p:nvSpPr>
        <p:spPr>
          <a:xfrm>
            <a:off x="1527120" y="2392200"/>
            <a:ext cx="1244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80"/>
          <p:cNvSpPr/>
          <p:nvPr/>
        </p:nvSpPr>
        <p:spPr>
          <a:xfrm>
            <a:off x="1258920" y="277020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86"/>
          <p:cNvSpPr/>
          <p:nvPr/>
        </p:nvSpPr>
        <p:spPr>
          <a:xfrm>
            <a:off x="1258920" y="1557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ЬШ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8"/>
          <p:cNvSpPr/>
          <p:nvPr/>
        </p:nvSpPr>
        <p:spPr>
          <a:xfrm>
            <a:off x="1258920" y="191628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Д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94"/>
          <p:cNvSpPr/>
          <p:nvPr/>
        </p:nvSpPr>
        <p:spPr>
          <a:xfrm>
            <a:off x="2556000" y="15462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ОЛГАР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08"/>
          <p:cNvSpPr/>
          <p:nvPr/>
        </p:nvSpPr>
        <p:spPr>
          <a:xfrm>
            <a:off x="4140360" y="1916280"/>
            <a:ext cx="187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54"/>
          <p:cNvSpPr/>
          <p:nvPr/>
        </p:nvSpPr>
        <p:spPr>
          <a:xfrm>
            <a:off x="4211640" y="15573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ЕХОСЛОВАК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73"/>
          <p:cNvSpPr/>
          <p:nvPr/>
        </p:nvSpPr>
        <p:spPr>
          <a:xfrm flipH="1">
            <a:off x="2123640" y="357336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74"/>
          <p:cNvSpPr/>
          <p:nvPr/>
        </p:nvSpPr>
        <p:spPr>
          <a:xfrm flipH="1" flipV="1">
            <a:off x="2411280" y="2852280"/>
            <a:ext cx="136872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83"/>
          <p:cNvSpPr/>
          <p:nvPr/>
        </p:nvSpPr>
        <p:spPr>
          <a:xfrm flipH="1" flipV="1">
            <a:off x="1763280" y="2133720"/>
            <a:ext cx="208764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85"/>
          <p:cNvSpPr/>
          <p:nvPr/>
        </p:nvSpPr>
        <p:spPr>
          <a:xfrm flipH="1" flipV="1">
            <a:off x="2268360" y="1773360"/>
            <a:ext cx="165600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91"/>
          <p:cNvSpPr/>
          <p:nvPr/>
        </p:nvSpPr>
        <p:spPr>
          <a:xfrm flipH="1" flipV="1">
            <a:off x="3492360" y="1844640"/>
            <a:ext cx="9352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92"/>
          <p:cNvSpPr/>
          <p:nvPr/>
        </p:nvSpPr>
        <p:spPr>
          <a:xfrm flipV="1">
            <a:off x="4716360" y="1844640"/>
            <a:ext cx="432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93"/>
          <p:cNvSpPr/>
          <p:nvPr/>
        </p:nvSpPr>
        <p:spPr>
          <a:xfrm flipV="1">
            <a:off x="5435640" y="2565360"/>
            <a:ext cx="10810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94"/>
          <p:cNvSpPr/>
          <p:nvPr/>
        </p:nvSpPr>
        <p:spPr>
          <a:xfrm flipV="1">
            <a:off x="5508720" y="2997000"/>
            <a:ext cx="107928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95"/>
          <p:cNvSpPr/>
          <p:nvPr/>
        </p:nvSpPr>
        <p:spPr>
          <a:xfrm>
            <a:off x="5508720" y="3429000"/>
            <a:ext cx="115092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96"/>
          <p:cNvSpPr/>
          <p:nvPr/>
        </p:nvSpPr>
        <p:spPr>
          <a:xfrm>
            <a:off x="5580000" y="4149720"/>
            <a:ext cx="122400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08"/>
          <p:cNvSpPr/>
          <p:nvPr/>
        </p:nvSpPr>
        <p:spPr>
          <a:xfrm>
            <a:off x="900000" y="765000"/>
            <a:ext cx="14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10"/>
          <p:cNvSpPr/>
          <p:nvPr/>
        </p:nvSpPr>
        <p:spPr>
          <a:xfrm>
            <a:off x="1042920" y="549360"/>
            <a:ext cx="6985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WordArt 211"/>
          <p:cNvSpPr txBox="1"/>
          <p:nvPr/>
        </p:nvSpPr>
        <p:spPr>
          <a:xfrm>
            <a:off x="1835280" y="333360"/>
            <a:ext cx="5217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емля встречает геро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3" name="Picture 212" descr="Гагарин"/>
          <p:cNvPicPr/>
          <p:nvPr/>
        </p:nvPicPr>
        <p:blipFill>
          <a:blip r:embed="rId2"/>
          <a:stretch/>
        </p:blipFill>
        <p:spPr>
          <a:xfrm>
            <a:off x="755640" y="429264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агарин на Донской земл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967 год, ию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80"/>
          <p:cNvSpPr/>
          <p:nvPr/>
        </p:nvSpPr>
        <p:spPr>
          <a:xfrm>
            <a:off x="1258920" y="551664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ограф Ю.А.Гагарина на стене домика в г.Ростове-на-Дон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88"/>
          <p:cNvSpPr/>
          <p:nvPr/>
        </p:nvSpPr>
        <p:spPr>
          <a:xfrm>
            <a:off x="8151840" y="5632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89" descr=""/>
          <p:cNvPicPr/>
          <p:nvPr/>
        </p:nvPicPr>
        <p:blipFill>
          <a:blip r:embed="rId1">
            <a:grayscl/>
          </a:blip>
          <a:srcRect l="8728" t="2972" r="1716" b="11733"/>
          <a:stretch/>
        </p:blipFill>
        <p:spPr>
          <a:xfrm>
            <a:off x="1928880" y="2571840"/>
            <a:ext cx="4643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9"/>
          <p:cNvSpPr txBox="1"/>
          <p:nvPr/>
        </p:nvSpPr>
        <p:spPr>
          <a:xfrm>
            <a:off x="1763640" y="476280"/>
            <a:ext cx="61437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наете, каким он парнем был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179280" y="4076640"/>
            <a:ext cx="446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ргей Королев, генеральный конструктор космического корабля «Восток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5651640" y="5229360"/>
            <a:ext cx="33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лексей Леонов, дважды Герой Советского Союза, летчик-космонавт ССС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4"/>
          <p:cNvSpPr/>
          <p:nvPr/>
        </p:nvSpPr>
        <p:spPr>
          <a:xfrm>
            <a:off x="7432560" y="4479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5"/>
          <p:cNvSpPr/>
          <p:nvPr/>
        </p:nvSpPr>
        <p:spPr>
          <a:xfrm>
            <a:off x="7524720" y="5084640"/>
            <a:ext cx="20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7"/>
          <p:cNvSpPr/>
          <p:nvPr/>
        </p:nvSpPr>
        <p:spPr>
          <a:xfrm>
            <a:off x="1095480" y="5489640"/>
            <a:ext cx="722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04" descr="16"/>
          <p:cNvPicPr/>
          <p:nvPr/>
        </p:nvPicPr>
        <p:blipFill>
          <a:blip r:embed="rId3"/>
          <a:stretch/>
        </p:blipFill>
        <p:spPr>
          <a:xfrm>
            <a:off x="357120" y="7142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6" descr="Кор"/>
          <p:cNvPicPr/>
          <p:nvPr/>
        </p:nvPicPr>
        <p:blipFill>
          <a:blip r:embed="rId4"/>
          <a:stretch/>
        </p:blipFill>
        <p:spPr>
          <a:xfrm>
            <a:off x="971640" y="1773360"/>
            <a:ext cx="1487520" cy="21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7" descr="Леонов"/>
          <p:cNvPicPr/>
          <p:nvPr/>
        </p:nvPicPr>
        <p:blipFill>
          <a:blip r:embed="rId5"/>
          <a:stretch/>
        </p:blipFill>
        <p:spPr>
          <a:xfrm>
            <a:off x="6084720" y="2565360"/>
            <a:ext cx="2019600" cy="2320920"/>
          </a:xfrm>
          <a:prstGeom prst="rect">
            <a:avLst/>
          </a:prstGeom>
          <a:ln w="0">
            <a:noFill/>
          </a:ln>
        </p:spPr>
      </p:pic>
      <p:sp>
        <p:nvSpPr>
          <p:cNvPr id="198" name="Овальная выноска 12"/>
          <p:cNvSpPr/>
          <p:nvPr/>
        </p:nvSpPr>
        <p:spPr>
          <a:xfrm>
            <a:off x="2571840" y="1357200"/>
            <a:ext cx="2428920" cy="1285920"/>
          </a:xfrm>
          <a:prstGeom prst="wedgeEllipseCallout">
            <a:avLst>
              <a:gd name="adj1" fmla="val -65064"/>
              <a:gd name="adj2" fmla="val 61791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н открыл людям Земли дорогу в неизведанный ми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Овальная выноска 13"/>
          <p:cNvSpPr/>
          <p:nvPr/>
        </p:nvSpPr>
        <p:spPr>
          <a:xfrm>
            <a:off x="3500280" y="3071880"/>
            <a:ext cx="2557800" cy="1500120"/>
          </a:xfrm>
          <a:prstGeom prst="wedgeEllipseCallout">
            <a:avLst>
              <a:gd name="adj1" fmla="val 76064"/>
              <a:gd name="adj2" fmla="val 615"/>
            </a:avLst>
          </a:prstGeom>
          <a:solidFill>
            <a:srgbClr val="3399ff"/>
          </a:solidFill>
          <a:ln w="25560">
            <a:solidFill>
              <a:srgbClr val="23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агарин был прирожденным лидером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16:01:09Z</dcterms:created>
  <dc:creator>User</dc:creator>
  <dc:description/>
  <dc:language>en-US</dc:language>
  <cp:lastModifiedBy>XPmode</cp:lastModifiedBy>
  <dcterms:modified xsi:type="dcterms:W3CDTF">2011-02-05T22:25:32Z</dcterms:modified>
  <cp:revision>19</cp:revision>
  <dc:subject/>
  <dc:title>Он был первым</dc:title>
</cp:coreProperties>
</file>